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BB2-9F97-4DE2-AF30-3D945D60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3E8-B04F-4EDB-9657-57DDD24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A9C-2210-42BF-95DF-1C847897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9B0-6BB1-4875-8FA8-B03528E8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ED0-6D75-4ED3-B262-A1B7DB5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2C83-76DB-4A26-B570-CE5FC77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D85-5B41-4316-9412-53478D4E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6824-B217-4CAA-AFC2-62894BBD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DBF-8764-4168-8FBA-B02590F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3D9D-EAF4-42FB-839C-38A60D9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4013-373C-4059-8BD1-E2EDC99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9A5-50BB-4EB3-91E1-DC71B58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F52-D412-4163-AEBC-0E15104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077-4463-4B2A-99DE-7682716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C57E-51E8-4CBE-A644-88C871A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901-985A-42D8-AD1A-C9145E05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D04-436A-4A2A-B504-7FCD54A2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BBE-C8AA-4C6D-96EF-21A5FCD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832-3EE5-4306-81F6-11FE81DD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54E-E995-4C8C-9E2E-C10C713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45F-9C2B-41E4-AFE6-11909C3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1C0-A0D4-4A12-BE46-D9E9254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B55-5443-44E1-985F-12B6EA3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154-3D87-456D-8655-DF78B6B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d1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2ED0-A82E-458E-A2D9-E9CBDACBCD08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d1e8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d1e8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EC3-5C1F-43F3-888A-3257C6494559}" type="slidenum">
              <a:rPr b="0" lang="ro-RO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KW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L Diagra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/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24000" y="422100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Food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Language of F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6640"/>
          <a:ext cx="7772400" cy="410508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antifiers Used for Food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932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eals of the Day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- What’s on the Menu?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276640"/>
          <a:ext cx="7773840" cy="3914640"/>
        </p:xfrm>
        <a:graphic>
          <a:graphicData uri="http://schemas.openxmlformats.org/drawingml/2006/table">
            <a:tbl>
              <a:tblPr/>
              <a:tblGrid>
                <a:gridCol w="2232000"/>
                <a:gridCol w="266544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ealthy Ea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349360"/>
          <a:ext cx="7772400" cy="410544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71640" y="2276640"/>
          <a:ext cx="7772400" cy="411444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omanian Recip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2232000"/>
                <a:gridCol w="2664000"/>
                <a:gridCol w="2876400"/>
              </a:tblGrid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o I know 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would I like to know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What did I learn</a:t>
                      </a: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 craciun</cp:lastModifiedBy>
  <dcterms:modified xsi:type="dcterms:W3CDTF">2011-01-14T18:49:47Z</dcterms:modified>
  <cp:revision>8</cp:revision>
  <dc:subject/>
  <dc:title>Compuşi hidroxilici</dc:title>
</cp:coreProperties>
</file>